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4EF-774F-41A4-B6D8-355448E3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578-A52A-47B6-847C-5B188EA6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A889-6A0F-418D-A7AE-7314B258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171-F687-4ABD-AB65-94797816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DE0-1B55-42D7-B05A-7B7782E4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8DC-27F2-45F7-B958-7BCDE653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173-21D9-4F46-AA67-FD41257B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D64-CBD6-4760-9C0C-97434D48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594-22A5-4295-B6AC-0DD33FE3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292-71D5-4F4F-A8C9-0575735B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1FB-EAD6-4071-836A-D8B38148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623E-A830-4690-A42F-B4AAACCB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D6CE-FE42-48F6-9BCD-C95DD53A4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981080"/>
            <a:ext cx="80773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dratic Functions and Their Z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09480" y="1295280"/>
            <a:ext cx="8229600" cy="554040"/>
            <a:chOff x="609480" y="1295280"/>
            <a:chExt cx="8229600" cy="554040"/>
          </a:xfrm>
        </p:grpSpPr>
        <p:sp>
          <p:nvSpPr>
            <p:cNvPr id="43" name=""/>
            <p:cNvSpPr/>
            <p:nvPr/>
          </p:nvSpPr>
          <p:spPr>
            <a:xfrm>
              <a:off x="609480" y="1295280"/>
              <a:ext cx="822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ind the zeros of                               .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4" name=""/>
            <p:cNvGraphicFramePr/>
            <p:nvPr/>
          </p:nvGraphicFramePr>
          <p:xfrm>
            <a:off x="3260880" y="1309680"/>
            <a:ext cx="2590560" cy="53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60880" y="1309680"/>
                      <a:ext cx="2590560" cy="53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6" name=""/>
          <p:cNvSpPr/>
          <p:nvPr/>
        </p:nvSpPr>
        <p:spPr>
          <a:xfrm>
            <a:off x="152280" y="228600"/>
            <a:ext cx="8763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lve the following equation by factoring.  List an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intercepts of 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880" y="3352680"/>
          <a:ext cx="792504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79250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52280" y="1816200"/>
            <a:ext cx="8763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nd the zeros of each of the following functions using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uare Root Metho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  List an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intercepts of th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4295880"/>
            <a:ext cx="8763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nd the zeros of the following function b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leting the squar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  List an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intercepts of th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960640" y="5715000"/>
          <a:ext cx="3129120" cy="6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60640" y="5715000"/>
                    <a:ext cx="31291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304920"/>
            <a:ext cx="8763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te the quadratic formula, which gives the solution(s) of the following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00480" y="1523880"/>
                <a:ext cx="43434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152280" y="1981080"/>
            <a:ext cx="8763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nd the real zeros, if any, of the following functions.  List any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intercepts of each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762120" y="3340080"/>
                <a:ext cx="23749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62120" y="4178160"/>
                <a:ext cx="35305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09480" y="1066680"/>
          <a:ext cx="8458200" cy="9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4582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1520" y="2209680"/>
          <a:ext cx="7207200" cy="97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1520" y="2209680"/>
                    <a:ext cx="720720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52280" y="3808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ork each of the following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18728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330280"/>
            <a:ext cx="87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7-12-29T13:13:56Z</dcterms:modified>
  <cp:revision>9</cp:revision>
  <dc:subject/>
  <dc:title>Slide 1</dc:title>
</cp:coreProperties>
</file>